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D943-A287-4D95-BD63-3A5A55EB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FE4-1FB2-497D-B257-51997A65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540-84FB-4945-8C87-6832C611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E6B-DDC2-4105-AFC4-CD7CF1C5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CA4A-58BC-4273-8DBB-B84FCDFE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79B5-E976-4277-820B-F51011CD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4111-E129-4BAD-955A-29156D88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5D59-CEEC-4B9A-8616-C1041DA3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4EA3-7141-4CB9-89B0-C79DC6C6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BEA2-66FA-4B95-9F15-09699A7C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F27E-00F6-4828-AA5E-8DAA0715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298-75F1-46EA-B72C-43BCB622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C48A-780B-486C-BACB-0EEDA5DA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2031-7336-414E-B2EA-46A64AA1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8B73-CC8A-451E-8350-37913891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DB0D-6344-48F7-9E22-30B36198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D96A-0D1B-4DC7-BBAF-6E25959D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528-C500-4B4B-865C-97A9189A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6E3-29D5-43AD-8A7C-0F4DE882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0D0-E293-4DEF-8B6E-CEE438DD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7CA-F722-47D5-9838-3FD6AB26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B0B-A7DD-4169-BD5D-E46B88C1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F20-F9B0-4FA4-98D7-637B178D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38D-A231-4928-B69D-862A3FFF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2D37-2619-48B0-9366-A56ED014FF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7FF9-FE4F-4E84-99C1-4D69D083B8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uth American Histor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ott C. and Andrew 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as Christopher Columbus looking for when he set ou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of Exploration - 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untry was the first to declare its independenc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ggle for Independenc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untry was the last to declare its independenc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ggle for Independenc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was the only country that wasn’t ruled by a European country, and who did they get independence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ggle for Independenc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event triggered many countries to seek their independenc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ggle for Independenc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id Bolivia become landlock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 Independence -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untries were part of Gran Colombi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 Independence - 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times did control of Peru change from 1821-1845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 Independence - 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caudillo and why did people fear the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 Independence - 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304920"/>
            <a:ext cx="18288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-Colomb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228600"/>
            <a:ext cx="160020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 of Expl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228600"/>
            <a:ext cx="190476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ggle for Indepen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228600"/>
            <a:ext cx="175284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fter Indepen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685800" y="1066680"/>
            <a:ext cx="129528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2362320"/>
            <a:ext cx="129528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685800" y="3733920"/>
            <a:ext cx="129528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685800" y="5029200"/>
            <a:ext cx="129528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2743200" y="1066680"/>
            <a:ext cx="129528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2743200" y="2362320"/>
            <a:ext cx="129528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2743200" y="3733920"/>
            <a:ext cx="129528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2743200" y="5029200"/>
            <a:ext cx="129528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4800600" y="1066680"/>
            <a:ext cx="129528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4800600" y="2362320"/>
            <a:ext cx="129528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4800600" y="3733920"/>
            <a:ext cx="129528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4800600" y="5029200"/>
            <a:ext cx="129528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6781680" y="1066680"/>
            <a:ext cx="129564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6781680" y="2362320"/>
            <a:ext cx="129564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6781680" y="3733920"/>
            <a:ext cx="129564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rId16" action="ppaction://hlinksldjump"/>
          </p:cNvPr>
          <p:cNvSpPr/>
          <p:nvPr/>
        </p:nvSpPr>
        <p:spPr>
          <a:xfrm>
            <a:off x="6781680" y="5029200"/>
            <a:ext cx="129564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re some of the first tools that were develop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Colombian –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id the word “Inca”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Colombian – 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nquistador conquered the capital of the Inca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Colombian – 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what year did man change from food gatherer to food produc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Colombian – 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were the competing countries for colonization of South Americ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of Exploration -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re three animals that the Old World introduced to the New Worl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of Exploration - 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re children called that had Spanish fathers and Native American wome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of Exploration - 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00:07:23Z</dcterms:created>
  <dc:creator>Scott Chubb</dc:creator>
  <dc:description/>
  <dc:language>en-US</dc:language>
  <cp:lastModifiedBy>Scott Chubb</cp:lastModifiedBy>
  <dcterms:modified xsi:type="dcterms:W3CDTF">2007-05-23T01:45:50Z</dcterms:modified>
  <cp:revision>9</cp:revision>
  <dc:subject/>
  <dc:title>South American History</dc:title>
</cp:coreProperties>
</file>